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1.png" ContentType="image/png"/>
  <Override PartName="/ppt/media/image7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dt" idx="2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8240E-0015-4BD9-9069-E3AC4F62BB1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A23BD-B546-42B2-BF58-06B1A6424DC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9E8C1-D891-4BB9-9664-D742710C61A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7F7CF-167D-4BD4-88D0-AE93B7246BB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0AAE0-C4B0-46B8-A3AE-3B5DA7E5038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98985-DBD1-4CE4-B9DA-FD73E25A597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35740-28A1-4BD1-8CA9-A59C4AEE0DB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50F9D-12AF-4D7A-A717-B0A2EFB83BC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58F0-EAE9-4B71-9B89-637AEDA70B3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05BDB-A8CA-4BEA-9FA9-EBE04428F73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B07FE-3E58-4153-B016-E6B2364AD684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0C71F-4A5E-4DC9-8435-D94191E794D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C4D3D-4D85-423F-99F7-5F94E44FCA6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CACA-34B4-4EF6-8A80-0EAE59E3894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AE66A-F2BC-4228-9ACB-D62FBF78564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71D05-F0FE-4C61-A46B-E7DAAE42857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93779-B8F5-4764-A016-E1C700EDAED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A92C2-5010-4F9B-A6A9-F9442D347D0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BF0A8-7D20-42E0-BCA7-A038ECE1979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79F1D-FF8B-4C98-A729-879E00DDDDC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E7BD0-94FE-46ED-A88C-9C420927655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6CCC7-BAE3-4443-B354-FFD2A1E40C5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DA5C7-59F5-4219-B768-9CDCA0F13796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70887-3D5F-4BC3-B86D-C49730F509B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68E4A-0101-4DBE-B93D-49617DDF4EB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E9D04-24F2-47E6-9EF8-DAC35D1BF07D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96752-D4A7-4777-AFCC-319CEF0D7F6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68CE1-571A-45F0-8366-042613AB5D48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75F8C-311C-4128-B416-27B30C880CE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AE566-B15E-4354-8475-0D0EBC561D65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24B39-D494-42C3-A2AA-948C72DB21F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7B7D4-54A3-4C1E-9C6B-4A3C06DDC7A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C564A-91E4-4F98-A1F8-A4CDCD6D6C1C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455C-2E61-4BF0-BB65-A84C2430452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89F38-B4A1-4914-9D4E-0BD8F598878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FF0A0-52E2-486C-AA7C-7257185B2209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E07EF-E920-49BC-B543-0DD56FD051A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33D16-1838-4DCF-BF79-2DE3EFA071F0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FAF33-BF0B-4CB8-AFA8-76CE0EF1758A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80F29-0920-48E3-8EE3-FCEC1FB53A81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DF969-20A1-426B-92BA-2C8D7F784F8E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oliennummernplatzhalt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44104-E9D9-4DAA-98BF-7CBBDF46BE0F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42947-55D7-46C7-9AC2-53521EAB4617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70490-8683-48D9-86D8-339392EF9A83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A36C-A78E-4DA2-B8B7-5945F160621B}" type="slidenum">
              <a:rPr b="0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C40-E9B2-4903-A3ED-42C785CA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617-5E59-4F2C-8DDB-A95099D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B1C-A0CA-45B0-91E6-CA3C438D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110-43EE-436C-857C-23D3DC98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C172-13F8-4CC9-8CA7-F24A282C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644-4CC2-470C-BD98-687EBE74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9860-D001-45B3-A7BA-AE876A1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7584-19B2-413C-9D3F-D7673B1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5DD5-B608-4F7E-8C1E-028702F3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AC58-68C3-465B-97AE-61CD9850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D3A8-8A43-446C-B407-2B0FE5B9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092-05C1-463E-AE46-38ABE7F4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9506-D113-40D7-8A98-D7B8059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0104-1CAF-4EE7-BDE2-3A97A4D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4892-C0B1-4A88-96AA-017785F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91E4-BFF0-4776-9759-017D79D0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1337-B6E3-48F7-AA4D-9E97592B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43E12-B7A2-4AF2-99F9-54789FA1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19DE3-E8AB-4CF5-86E3-2BFF7AD6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8D5EF-248F-47C1-9F76-EDE75591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A93FE-931C-4416-8E79-5611728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94029-8005-4E43-A4E7-B42109C1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ED9-A0E5-43BE-B553-05A62C7D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7B6B4-4BAA-4AF0-9106-87D3E94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A5CA2-18CB-42DE-9556-C519723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2C866-4E26-485E-A0FC-EAF8397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ECD70-04CC-452C-A20C-5ED2A5E0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F8FCA-3B53-486C-9B87-DF531591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A1A49-38AF-4334-A31F-2FD822AF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1DAAC-0C36-40BF-BC10-73BDE0EE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4D9DA-3AFD-43DD-A1A3-3478991C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19306-D60E-451C-BFCD-CE1CD06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030BE-D251-43D2-9FB2-7299E898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1FA-3CB5-4883-97C7-C419BDC1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53318-867E-418B-9426-A9E58AC9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9A932-DEB9-43E0-8F59-4032910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867D5-6896-4C0A-BE45-72CC709C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FE27C-0D76-4CE7-B282-6C51714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7BDE8-DFCB-4867-AA44-081DD66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F86ED-1600-443E-826F-6ABDB7D3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8A51A-F3F5-47C1-8B68-0772689F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619FB-1380-487B-BD83-9816FF3F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FA427-0F13-4FF8-A7E9-28ECC7E9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C551D-9289-40F2-97BB-26596E25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7FE-E997-4F28-87A0-FA25B01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2CD70-F709-45F4-A88E-B793FC9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8618F-7462-49E8-877A-3580672A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02772-5461-4297-ABAB-62BE572D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C9EBB-F74D-42EF-8D90-CF188F1E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C057C-D1D2-42CB-82E9-8AABC116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40632-A511-4D37-B6B2-5908E2A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B14FE-3628-4536-8AA6-F0D45CAF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4DE74-8A40-4C99-93B8-F3BAC8A1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A8187-0CF5-467F-AE8D-8D5BF43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CFE71-7588-42CD-B919-9AE815F7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6F2-93E2-48EB-95CD-E1357FD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2D8B0-4456-4080-A284-63EB3B5C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B770-B35E-42FC-BD6F-FCB2C722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F9FF1-2980-44D4-ADC2-7CF786B2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A942-9AC3-4D8A-A667-8C583B19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BD1D1-47D0-42D3-B0F4-AE2AEC89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AB47-BB9D-48DD-94D8-0F55C666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B3C8-B3F5-40E3-965E-344BDECC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F7DA9-F87E-4A57-B0D3-8AF2E19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6695-2CD8-4D36-9322-EE3F5E0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D80C-5B7E-4759-A5A6-C3663598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4E3-9496-4D77-BA27-201E100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2458-7839-4905-997F-C130AA37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5239C-21C4-44A6-9047-47E8B391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6C40-E01B-4025-9340-57380A6F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22FEB-E83D-477D-B5BE-330355A3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B7D66-5783-479A-BBFD-910D4E4B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DC67C-C8AC-49F6-BAAA-196A47C8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76EF0-7C3C-41D3-A62B-E0EA2A5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E13D7-568B-43BC-8722-A10A85A4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C9D58-0E91-43FA-BB98-E3226B65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608CB-C314-4B18-9570-83DC8B2D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0AE-B335-4B53-8B49-0AE8E06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A3E34-C1BD-48FB-B0FF-2EAB3A1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1751A-C1D0-46CC-96C4-30F456F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A73D7-64A3-4D55-820F-FD57CD2A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0906D-4F0B-42DC-AA86-8E6BC96F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4981F-C875-4795-A59B-5CE8CB6F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A7F3-3957-46EB-A873-B08C6BD0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6E58-0B97-43C9-B22B-4DD8FB2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59CE3-D081-4E1B-8683-9FE8335F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87300-B890-4392-995E-98451B6C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9079-32B4-4184-80BC-8EE4D7A4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FBC-1D8C-4FB5-A80A-B0D4255F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FB93-5AE6-47A1-A8E4-7CD5B1CF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48088-4ED9-4EAF-BE0F-8F159F0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555D-EEB6-481F-8AF5-80C273F9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4C569-F4DA-400C-9AB6-1878BD9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7D91A-75DF-4651-A6F5-A312714F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4A56A-6455-4F53-AE9A-B5457B88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D5D3B-A03B-49F6-BA5F-2CF87AC0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4ACBC4-AC7C-4225-BE94-1D0D2716B41C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ck 9"/>
          <p:cNvSpPr/>
          <p:nvPr/>
        </p:nvSpPr>
        <p:spPr>
          <a:xfrm>
            <a:off x="0" y="6581880"/>
            <a:ext cx="10080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hteck 10"/>
          <p:cNvSpPr/>
          <p:nvPr/>
        </p:nvSpPr>
        <p:spPr>
          <a:xfrm>
            <a:off x="-9360" y="6672240"/>
            <a:ext cx="2479680" cy="7873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hteck 11"/>
          <p:cNvSpPr/>
          <p:nvPr/>
        </p:nvSpPr>
        <p:spPr>
          <a:xfrm>
            <a:off x="2600280" y="6662880"/>
            <a:ext cx="7480440" cy="785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80" y="6689520"/>
            <a:ext cx="22683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98600" y="260280"/>
            <a:ext cx="6469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819640" y="252360"/>
            <a:ext cx="9241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93D62F-C536-45A5-8762-37E176AAA7AA}" type="slidenum">
              <a:rPr b="1" lang="de-DE" sz="15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9"/>
          <p:cNvSpPr/>
          <p:nvPr/>
        </p:nvSpPr>
        <p:spPr>
          <a:xfrm>
            <a:off x="0" y="1679400"/>
            <a:ext cx="10080720" cy="12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hteck 10"/>
          <p:cNvSpPr/>
          <p:nvPr/>
        </p:nvSpPr>
        <p:spPr>
          <a:xfrm>
            <a:off x="0" y="1763640"/>
            <a:ext cx="1428840" cy="10922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hteck 11"/>
          <p:cNvSpPr/>
          <p:nvPr/>
        </p:nvSpPr>
        <p:spPr>
          <a:xfrm>
            <a:off x="1512720" y="1763640"/>
            <a:ext cx="8568000" cy="1092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-360" y="1931760"/>
            <a:ext cx="1428840" cy="77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12AAA2-0832-422D-A20E-DAF367ACBA33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5D58D1-7088-4579-B682-2D2D6340AC5F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eck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55B313-ABC9-49B3-A351-8820DFB018CF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888240"/>
            <a:ext cx="5875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D6499D-5164-4D03-89B7-814AFB279E50}" type="slidenum">
              <a:rPr b="1" lang="de-DE" sz="15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9"/>
          <p:cNvSpPr/>
          <p:nvPr/>
        </p:nvSpPr>
        <p:spPr>
          <a:xfrm>
            <a:off x="-9360" y="5040360"/>
            <a:ext cx="1008036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hteck 10"/>
          <p:cNvSpPr/>
          <p:nvPr/>
        </p:nvSpPr>
        <p:spPr>
          <a:xfrm>
            <a:off x="-9360" y="5140440"/>
            <a:ext cx="1612800" cy="785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hteck 11"/>
          <p:cNvSpPr/>
          <p:nvPr/>
        </p:nvSpPr>
        <p:spPr>
          <a:xfrm>
            <a:off x="1703520" y="5130720"/>
            <a:ext cx="8377200" cy="785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hteck 12"/>
          <p:cNvSpPr/>
          <p:nvPr/>
        </p:nvSpPr>
        <p:spPr>
          <a:xfrm>
            <a:off x="1595520" y="0"/>
            <a:ext cx="110880" cy="75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88788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5144760"/>
            <a:ext cx="1595520" cy="73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3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C1039F-A3E9-4356-BB32-63C84F988899}" type="slidenum">
              <a:rPr b="1" lang="de-DE" sz="3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763280" y="6887880"/>
            <a:ext cx="50403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eck 9"/>
          <p:cNvSpPr/>
          <p:nvPr/>
        </p:nvSpPr>
        <p:spPr>
          <a:xfrm>
            <a:off x="6721560" y="0"/>
            <a:ext cx="35244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hteck 10"/>
          <p:cNvSpPr/>
          <p:nvPr/>
        </p:nvSpPr>
        <p:spPr>
          <a:xfrm>
            <a:off x="6770520" y="671400"/>
            <a:ext cx="252720" cy="6888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hteck 11"/>
          <p:cNvSpPr/>
          <p:nvPr/>
        </p:nvSpPr>
        <p:spPr>
          <a:xfrm>
            <a:off x="6770520" y="0"/>
            <a:ext cx="252720" cy="587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24840" y="6887880"/>
            <a:ext cx="2435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04720" y="6887880"/>
            <a:ext cx="61437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6603840" y="158400"/>
            <a:ext cx="58752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6FC174-7BE2-4FA4-B88A-06E9F9D6BA2E}" type="slidenum">
              <a:rPr b="1" lang="de-DE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 flipV="1">
            <a:off x="503280" y="207720"/>
            <a:ext cx="90709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6283440" y="6851520"/>
            <a:ext cx="3471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n Thomas Lieb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-6480"/>
            <a:ext cx="10080720" cy="65660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603520" y="6668640"/>
            <a:ext cx="73929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w Cen MT"/>
              </a:rPr>
              <a:t>Biogasanlag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3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grub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orgrube dient als Zwischenlager für Gülle und Ko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Zusätzlich kann man darin auch Substrate zerkleinern, vermischen und verdünn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6119640" y="4500720"/>
            <a:ext cx="324036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2560" y="1763640"/>
            <a:ext cx="8982000" cy="551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4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ststoffdosier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 wird mit kosubstraten befüllt und fördert diese dann, je nach Einstellung eine bestimmte Menge, in den Fermen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979640" y="3780000"/>
            <a:ext cx="68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5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In seinem Inneren bauen viele millionen Bakterien die organischen Bestandteile der Eingangstoffe ab und setzten Methan frei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Prozesstemperatur wird meist auf etwa 33-40 Grad Celsius ge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5219640" y="4500720"/>
            <a:ext cx="4500720" cy="2879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900000" y="4680000"/>
            <a:ext cx="3959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254016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ubstratverweildauer im Fermenter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5" name="Inhaltsplatzhalter 5" descr=""/>
          <p:cNvPicPr/>
          <p:nvPr/>
        </p:nvPicPr>
        <p:blipFill>
          <a:blip r:embed="rId1"/>
          <a:stretch/>
        </p:blipFill>
        <p:spPr>
          <a:xfrm>
            <a:off x="2603520" y="2208240"/>
            <a:ext cx="7056360" cy="4595760"/>
          </a:xfrm>
          <a:prstGeom prst="rect">
            <a:avLst/>
          </a:prstGeom>
          <a:ln w="0">
            <a:noFill/>
          </a:ln>
        </p:spPr>
      </p:pic>
      <p:sp>
        <p:nvSpPr>
          <p:cNvPr id="396" name="Textfeld 8"/>
          <p:cNvSpPr/>
          <p:nvPr/>
        </p:nvSpPr>
        <p:spPr>
          <a:xfrm>
            <a:off x="7831440" y="6708600"/>
            <a:ext cx="88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Zeit /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feld 10"/>
          <p:cNvSpPr/>
          <p:nvPr/>
        </p:nvSpPr>
        <p:spPr>
          <a:xfrm>
            <a:off x="2619000" y="1779480"/>
            <a:ext cx="123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Abbau /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763280"/>
            <a:ext cx="966456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Trocken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önnen Substrate mit weniger als 85% Wassergehalt  zu Biogas verwertet wer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ie Verwendung von Gülle ist nicht mehr zwingend erforderlich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kommen Substrate wie Mais und Grassilage, Getreidepflanzen, Kartoffeln oder Festmist zum Einsatz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Nassferm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s wird unterschieden zwisch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Speicheranla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oder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w Cen MT"/>
              </a:rPr>
              <a:t>Durchflussanla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000" spc="-1" strike="noStrike" u="sng">
                <a:solidFill>
                  <a:srgbClr val="000000"/>
                </a:solidFill>
                <a:uFillTx/>
                <a:latin typeface="Tw Cen MT"/>
              </a:rPr>
              <a:t>Speicheranlage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ünstig in der Herstellung und einfach im Betrieb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eine kontinuierliche Produktion von Bioga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a bei einer Speicheranlage der Fermenter gleichzeitig das Gärrückstandslager bilde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Fermenter muss geöffnet werden, wenn das Substrat vollständig ausgefault i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Erst dann ist eine neue Inbetriebnahme möglic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04" name="AutoShape 3"/>
          <p:cNvCxnSpPr>
            <a:stCxn id="403" idx="0"/>
            <a:endCxn id="403" idx="0"/>
          </p:cNvCxnSpPr>
          <p:nvPr/>
        </p:nvCxnSpPr>
        <p:spPr>
          <a:xfrm flipH="1" flipV="1" rot="5400000">
            <a:off x="5486760" y="1762920"/>
            <a:ext cx="2520" cy="252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05" name="Nach rechts gekrümmter Pfeil 20"/>
          <p:cNvSpPr/>
          <p:nvPr/>
        </p:nvSpPr>
        <p:spPr>
          <a:xfrm>
            <a:off x="39600" y="2994120"/>
            <a:ext cx="714600" cy="928440"/>
          </a:xfrm>
          <a:custGeom>
            <a:avLst/>
            <a:gdLst>
              <a:gd name="textAreaLeft" fmla="*/ 95760 w 714600"/>
              <a:gd name="textAreaRight" fmla="*/ 618840 w 714600"/>
              <a:gd name="textAreaTop" fmla="*/ 164880 h 928440"/>
              <a:gd name="textAreaBottom" fmla="*/ 67392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5" stAng="-5400000" swAng="-5400000"/>
                <a:lnTo>
                  <a:pt x="0" y="11839"/>
                </a:lnTo>
                <a:arcTo wR="21600" hR="7685" stAng="10800000" swAng="-3241763"/>
                <a:lnTo>
                  <a:pt x="16200" y="21356"/>
                </a:lnTo>
                <a:lnTo>
                  <a:pt x="21600" y="17446"/>
                </a:lnTo>
                <a:lnTo>
                  <a:pt x="16200" y="13048"/>
                </a:lnTo>
                <a:lnTo>
                  <a:pt x="16200" y="15125"/>
                </a:lnTo>
                <a:arcTo wR="21600" hR="7685" stAng="7558237" swAng="2899554"/>
                <a:lnTo>
                  <a:pt x="804" y="9762"/>
                </a:lnTo>
                <a:arcTo wR="21600" hR="7685" stAng="-10457791" swAng="5057791"/>
                <a:close/>
              </a:path>
              <a:path fill="darkenLess" w="21600" h="21600">
                <a:moveTo>
                  <a:pt x="21600" y="0"/>
                </a:moveTo>
                <a:arcTo wR="21600" hR="7685" stAng="-5400000" swAng="-5400000"/>
                <a:lnTo>
                  <a:pt x="0" y="7685"/>
                </a:lnTo>
                <a:arcTo wR="21600" hR="7685" stAng="10800000" swAng="-342209"/>
                <a:lnTo>
                  <a:pt x="804" y="9762"/>
                </a:lnTo>
                <a:arcTo wR="21600" hR="7685" stAng="-10457791" swAng="5057791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Nach rechts gekrümmter Pfeil 22"/>
          <p:cNvSpPr/>
          <p:nvPr/>
        </p:nvSpPr>
        <p:spPr>
          <a:xfrm>
            <a:off x="39600" y="4137120"/>
            <a:ext cx="714600" cy="1143000"/>
          </a:xfrm>
          <a:custGeom>
            <a:avLst/>
            <a:gdLst>
              <a:gd name="textAreaLeft" fmla="*/ 95760 w 714600"/>
              <a:gd name="textAreaRight" fmla="*/ 618840 w 714600"/>
              <a:gd name="textAreaTop" fmla="*/ 218520 h 1143000"/>
              <a:gd name="textAreaBottom" fmla="*/ 8352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69" stAng="-5400000" swAng="-5400000"/>
                <a:lnTo>
                  <a:pt x="0" y="11645"/>
                </a:lnTo>
                <a:arcTo wR="21600" hR="8269" stAng="10800000" swAng="-3360022"/>
                <a:lnTo>
                  <a:pt x="16200" y="21337"/>
                </a:lnTo>
                <a:lnTo>
                  <a:pt x="21600" y="18225"/>
                </a:lnTo>
                <a:lnTo>
                  <a:pt x="16200" y="14587"/>
                </a:lnTo>
                <a:lnTo>
                  <a:pt x="16200" y="16274"/>
                </a:lnTo>
                <a:arcTo wR="21600" hR="8269" stAng="7439978" swAng="3086170"/>
                <a:lnTo>
                  <a:pt x="455" y="9957"/>
                </a:lnTo>
                <a:arcTo wR="21600" hR="8269" stAng="-10526148" swAng="5126148"/>
                <a:close/>
              </a:path>
              <a:path fill="darkenLess" w="21600" h="21600">
                <a:moveTo>
                  <a:pt x="21600" y="0"/>
                </a:moveTo>
                <a:arcTo wR="21600" hR="8269" stAng="-5400000" swAng="-5400000"/>
                <a:lnTo>
                  <a:pt x="0" y="8269"/>
                </a:lnTo>
                <a:arcTo wR="21600" hR="8269" stAng="10800000" swAng="-273852"/>
                <a:lnTo>
                  <a:pt x="455" y="9957"/>
                </a:lnTo>
                <a:arcTo wR="21600" hR="8269" stAng="-10526148" swAng="512614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Nach rechts gekrümmter Pfeil 24"/>
          <p:cNvSpPr/>
          <p:nvPr/>
        </p:nvSpPr>
        <p:spPr>
          <a:xfrm>
            <a:off x="39600" y="5351400"/>
            <a:ext cx="714600" cy="121464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520 h 1214640"/>
              <a:gd name="textAreaBottom" fmla="*/ 8888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18" stAng="-5400000" swAng="-5400000"/>
                <a:lnTo>
                  <a:pt x="0" y="11595"/>
                </a:lnTo>
                <a:arcTo wR="21600" hR="8418" stAng="10800000" swAng="-3388389"/>
                <a:lnTo>
                  <a:pt x="16200" y="21333"/>
                </a:lnTo>
                <a:lnTo>
                  <a:pt x="21600" y="18424"/>
                </a:lnTo>
                <a:lnTo>
                  <a:pt x="16200" y="14980"/>
                </a:lnTo>
                <a:lnTo>
                  <a:pt x="16200" y="16568"/>
                </a:lnTo>
                <a:arcTo wR="21600" hR="8418" stAng="7411611" swAng="3131425"/>
                <a:lnTo>
                  <a:pt x="388" y="10006"/>
                </a:lnTo>
                <a:arcTo wR="21600" hR="8418" stAng="-10543036" swAng="5143036"/>
                <a:close/>
              </a:path>
              <a:path fill="darkenLess" w="21600" h="21600">
                <a:moveTo>
                  <a:pt x="21600" y="0"/>
                </a:moveTo>
                <a:arcTo wR="21600" hR="8418" stAng="-5400000" swAng="-5400000"/>
                <a:lnTo>
                  <a:pt x="0" y="8418"/>
                </a:lnTo>
                <a:arcTo wR="21600" hR="8418" stAng="10800000" swAng="-256964"/>
                <a:lnTo>
                  <a:pt x="388" y="10006"/>
                </a:lnTo>
                <a:arcTo wR="21600" hR="8418" stAng="-10543036" swAng="5143036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Trocken oder Nassfermentatio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Durchflussanlag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Sie besitzt mehrere Stationen, durch die das Substrat automatisch fließ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tinuierliche Produktion von Bioga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Da das ausgefaulte Substrat in ein Gärrückstandslager gepumpt wir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Nach rechts gekrümmter Pfeil 5"/>
          <p:cNvSpPr/>
          <p:nvPr/>
        </p:nvSpPr>
        <p:spPr>
          <a:xfrm>
            <a:off x="254160" y="2922480"/>
            <a:ext cx="500040" cy="1143000"/>
          </a:xfrm>
          <a:custGeom>
            <a:avLst/>
            <a:gdLst>
              <a:gd name="textAreaLeft" fmla="*/ 66960 w 500040"/>
              <a:gd name="textAreaRight" fmla="*/ 433080 w 500040"/>
              <a:gd name="textAreaTop" fmla="*/ 238680 h 1143000"/>
              <a:gd name="textAreaBottom" fmla="*/ 8416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8" stAng="-5400000" swAng="-5400000"/>
                <a:lnTo>
                  <a:pt x="0" y="11391"/>
                </a:lnTo>
                <a:arcTo wR="21600" hR="9028" stAng="10800000" swAng="-3497645"/>
                <a:lnTo>
                  <a:pt x="16200" y="21313"/>
                </a:lnTo>
                <a:lnTo>
                  <a:pt x="21600" y="19238"/>
                </a:lnTo>
                <a:lnTo>
                  <a:pt x="16200" y="16588"/>
                </a:lnTo>
                <a:lnTo>
                  <a:pt x="16200" y="17769"/>
                </a:lnTo>
                <a:arcTo wR="21600" hR="9028" stAng="7302355" swAng="3308164"/>
                <a:lnTo>
                  <a:pt x="186" y="10210"/>
                </a:lnTo>
                <a:arcTo wR="21600" hR="9028" stAng="-10610519" swAng="5210519"/>
                <a:close/>
              </a:path>
              <a:path fill="darkenLess" w="21600" h="21600">
                <a:moveTo>
                  <a:pt x="21600" y="0"/>
                </a:moveTo>
                <a:arcTo wR="21600" hR="9028" stAng="-5400000" swAng="-5400000"/>
                <a:lnTo>
                  <a:pt x="0" y="9028"/>
                </a:lnTo>
                <a:arcTo wR="21600" hR="9028" stAng="10800000" swAng="-189481"/>
                <a:lnTo>
                  <a:pt x="186" y="10210"/>
                </a:lnTo>
                <a:arcTo wR="21600" hR="9028" stAng="-10610519" swAng="5210519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Nach rechts gekrümmter Pfeil 7"/>
          <p:cNvSpPr/>
          <p:nvPr/>
        </p:nvSpPr>
        <p:spPr>
          <a:xfrm>
            <a:off x="254160" y="428004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6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Gärrückstandslag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 werden die Reste der Gärung gelagert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Sie werden von hier aus als Dünger auf die Felder gebracht, da sie noch wertvolle Stoffe enthalt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Chemische Reaktionen im Fermenter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611360" y="2208240"/>
            <a:ext cx="5829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as entstandene Biogas besteht aus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50-65 %  energiereichem Methan ( CH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35-50 %  Kohlendioxid (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&lt;1 %  Schwefelwasserstoff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Spurengasen ( Wasserdampf, Stickstoff, Sauerstoff 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Biogas Zusammensetz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iogas enthält </a:t>
            </a: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Schwefelwasserstoff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        10-125 mg/m³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 Toxität / Korrosions bilde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Entschwefelung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iolog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feil nach rechts 5"/>
          <p:cNvSpPr/>
          <p:nvPr/>
        </p:nvSpPr>
        <p:spPr>
          <a:xfrm>
            <a:off x="5826240" y="185112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dd80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feil nach unten 6"/>
          <p:cNvSpPr/>
          <p:nvPr/>
        </p:nvSpPr>
        <p:spPr>
          <a:xfrm>
            <a:off x="4826160" y="2279520"/>
            <a:ext cx="285480" cy="5716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dd804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w Cen MT"/>
              </a:rPr>
              <a:t>Biologische Entschwefelu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Effektive mikrobiologische Entschwefelu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Inhaltsplatzhalter 7" descr="Prechtlabb.5.jpg"/>
          <p:cNvPicPr/>
          <p:nvPr/>
        </p:nvPicPr>
        <p:blipFill>
          <a:blip r:embed="rId1"/>
          <a:stretch/>
        </p:blipFill>
        <p:spPr>
          <a:xfrm>
            <a:off x="3306600" y="1932120"/>
            <a:ext cx="565020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Vor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Tw Cen MT"/>
              </a:rPr>
              <a:t>Chemische Entschwefel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Basiert auf der Zugabe von Stoffen in den Fermenter, die den Schwefel binde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Hierbei wird vor allem Eisenoxid verwende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4640" y="182376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Schwefelwasserstoffentfernung mit Aktivkoh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Feinentschwefelung)                          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1440000" y="3780000"/>
            <a:ext cx="6840360" cy="3240000"/>
          </a:xfrm>
          <a:prstGeom prst="rect">
            <a:avLst/>
          </a:prstGeom>
          <a:ln w="0">
            <a:noFill/>
          </a:ln>
        </p:spPr>
      </p:pic>
      <p:sp>
        <p:nvSpPr>
          <p:cNvPr id="430" name="Pfeil nach unten 5"/>
          <p:cNvSpPr/>
          <p:nvPr/>
        </p:nvSpPr>
        <p:spPr>
          <a:xfrm>
            <a:off x="3540240" y="2422440"/>
            <a:ext cx="22143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bfd3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(Haupt) Entschwefelungsverfahr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900000" y="2160720"/>
            <a:ext cx="77691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2560" y="1850760"/>
            <a:ext cx="898848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Wird unterteilt i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Kondensationsverfahren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dsorptive Gastrocknung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Wasserdampf lagert sich an bestimmten Stoffen ab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(z.B. an Kieselgelen oder Aluminiumoxide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In Form von Granulat in einem Festbettadsorber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feil nach unten 5"/>
          <p:cNvSpPr/>
          <p:nvPr/>
        </p:nvSpPr>
        <p:spPr>
          <a:xfrm>
            <a:off x="3611520" y="4137120"/>
            <a:ext cx="8571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Gastrock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ndensationsverfahr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Biogas wird gekühlt, wodurch das darin enthaltene Wasser auskondensie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Das Wasser wird dem Prozess entnommen und abgeführ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2440" indent="-514440">
              <a:spcBef>
                <a:spcPts val="774"/>
              </a:spcBef>
              <a:buClr>
                <a:srgbClr val="dd8047"/>
              </a:buClr>
              <a:buFont typeface="Tw Cen MT"/>
              <a:buAutoNum type="arabicPeriod" startAt="7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- Gasspeicherung bei    &lt;0,1 bar Druck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üssen gasdicht, druckfest, UV,-temperatur-und Witterungsbeständig se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Anforderungen an Folien aus Kunststoffen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Reißfest :        min. 500N/ 5 cm² 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gfestigkeit : min. 250N/ 5 cm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buClr>
                <a:srgbClr val="ffcc99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Temperaturbeständig von -30 bis +50°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2440" indent="-51444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Einsatz von Biogasanlagen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1768320"/>
            <a:ext cx="95742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Vorkomm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Ernährungs-und Agrar-Industri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Kommunalen Entsorg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Zi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Aus Vergärung von organischen Stoffen </a:t>
            </a:r>
            <a:r>
              <a:rPr b="1" i="1" lang="de-DE" sz="3200" spc="-1" strike="noStrike" u="sng">
                <a:solidFill>
                  <a:srgbClr val="c00000"/>
                </a:solidFill>
                <a:uFillTx/>
                <a:latin typeface="Tw Cen MT"/>
              </a:rPr>
              <a:t>Energie</a:t>
            </a:r>
            <a:r>
              <a:rPr b="0" i="1" lang="de-DE" sz="3200" spc="-1" strike="noStrike">
                <a:solidFill>
                  <a:srgbClr val="000000"/>
                </a:solidFill>
                <a:latin typeface="Tw Cen MT"/>
              </a:rPr>
              <a:t> in Form von Strom und Wärme zu gewinn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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440000" y="2519280"/>
            <a:ext cx="738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7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Folienspeicher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im Ferment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039680" y="2779560"/>
            <a:ext cx="811548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8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lockheizkraftwerk 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(BHKW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176560" y="2340000"/>
            <a:ext cx="592452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Optimale Energieausbeute nur bei genügender        Sauerstoffzugab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sonsten keine vollständige Methanverbrenn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Sauerstoff   +  Methan        Kohlenstoffdioxid+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53" name="AutoShape 3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454" name="AutoShape 4"/>
          <p:cNvCxnSpPr>
            <a:stCxn id="452" idx="3"/>
            <a:endCxn id="452" idx="3"/>
          </p:cNvCxnSpPr>
          <p:nvPr/>
        </p:nvCxnSpPr>
        <p:spPr>
          <a:xfrm>
            <a:off x="9575280" y="4218120"/>
            <a:ext cx="3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55" name="Pfeil nach rechts 10"/>
          <p:cNvSpPr/>
          <p:nvPr/>
        </p:nvSpPr>
        <p:spPr>
          <a:xfrm>
            <a:off x="4111560" y="47800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feil nach rechts 12"/>
          <p:cNvSpPr/>
          <p:nvPr/>
        </p:nvSpPr>
        <p:spPr>
          <a:xfrm>
            <a:off x="4111560" y="52084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Nach rechts gekrümmter Pfeil 8"/>
          <p:cNvSpPr/>
          <p:nvPr/>
        </p:nvSpPr>
        <p:spPr>
          <a:xfrm>
            <a:off x="611280" y="2851200"/>
            <a:ext cx="428400" cy="1143000"/>
          </a:xfrm>
          <a:custGeom>
            <a:avLst/>
            <a:gdLst>
              <a:gd name="textAreaLeft" fmla="*/ 57240 w 428400"/>
              <a:gd name="textAreaRight" fmla="*/ 371160 w 428400"/>
              <a:gd name="textAreaTop" fmla="*/ 245520 h 1143000"/>
              <a:gd name="textAreaBottom" fmla="*/ 843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81" stAng="-5400000" swAng="-5400000"/>
                <a:lnTo>
                  <a:pt x="0" y="11307"/>
                </a:lnTo>
                <a:arcTo wR="21600" hR="9281" stAng="10800000" swAng="-3539862"/>
                <a:lnTo>
                  <a:pt x="16200" y="21305"/>
                </a:lnTo>
                <a:lnTo>
                  <a:pt x="21600" y="19575"/>
                </a:lnTo>
                <a:lnTo>
                  <a:pt x="16200" y="17255"/>
                </a:lnTo>
                <a:lnTo>
                  <a:pt x="16200" y="18267"/>
                </a:lnTo>
                <a:arcTo wR="21600" hR="9281" stAng="7260138" swAng="3377789"/>
                <a:lnTo>
                  <a:pt x="129" y="10294"/>
                </a:lnTo>
                <a:arcTo wR="21600" hR="9281" stAng="-10637927" swAng="5237927"/>
                <a:close/>
              </a:path>
              <a:path fill="darkenLess" w="21600" h="21600">
                <a:moveTo>
                  <a:pt x="21600" y="0"/>
                </a:moveTo>
                <a:arcTo wR="21600" hR="9281" stAng="-5400000" swAng="-5400000"/>
                <a:lnTo>
                  <a:pt x="0" y="9281"/>
                </a:lnTo>
                <a:arcTo wR="21600" hR="9281" stAng="10800000" swAng="-162073"/>
                <a:lnTo>
                  <a:pt x="129" y="10294"/>
                </a:lnTo>
                <a:arcTo wR="21600" hR="9281" stAng="-10637927" swAng="5237927"/>
                <a:close/>
              </a:path>
            </a:pathLst>
          </a:custGeom>
          <a:solidFill>
            <a:srgbClr val="94b6d2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BHK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Bei ungenügender Sauerstoffzugabe entstehen unerwünschte Nebenprodukte wie z.B Kohlenstoffmonoxid (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)  oder                                                     Kohlenstoff (Ruß)  (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Kohlenstoffmonoxid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+     3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O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     +   4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buClr>
                <a:srgbClr val="ffcc99"/>
              </a:buClr>
              <a:buFont typeface="Courier New"/>
              <a:buChar char="o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w Cen MT"/>
              </a:rPr>
              <a:t>od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Methan + Sauerstoff           Kohlenstoff + Was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18680" indent="-31248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4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+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                                     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    +  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H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2</a:t>
            </a:r>
            <a:r>
              <a:rPr b="0" lang="de-DE" sz="2400" spc="-1" strike="noStrike">
                <a:solidFill>
                  <a:srgbClr val="c00000"/>
                </a:solidFill>
                <a:latin typeface="Tw Cen MT"/>
              </a:rPr>
              <a:t>O</a:t>
            </a:r>
            <a:r>
              <a:rPr b="0" lang="de-DE" sz="2400" spc="-1" strike="noStrike" baseline="-33000">
                <a:solidFill>
                  <a:srgbClr val="c00000"/>
                </a:solidFill>
                <a:latin typeface="Tw Cen MT"/>
              </a:rPr>
              <a:t> 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Tw Cen MT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feil nach rechts 7"/>
          <p:cNvSpPr/>
          <p:nvPr/>
        </p:nvSpPr>
        <p:spPr>
          <a:xfrm>
            <a:off x="3468600" y="420840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feil nach rechts 10"/>
          <p:cNvSpPr/>
          <p:nvPr/>
        </p:nvSpPr>
        <p:spPr>
          <a:xfrm>
            <a:off x="3468600" y="463716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feil nach rechts 11"/>
          <p:cNvSpPr/>
          <p:nvPr/>
        </p:nvSpPr>
        <p:spPr>
          <a:xfrm>
            <a:off x="3468600" y="563724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feil nach rechts 12"/>
          <p:cNvSpPr/>
          <p:nvPr/>
        </p:nvSpPr>
        <p:spPr>
          <a:xfrm>
            <a:off x="3468600" y="613728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58b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w Cen MT"/>
              </a:rPr>
              <a:t>Eine Biogasanlage benötigt</a:t>
            </a: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nbaufläche (ca. 0,3-1,0 ha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Kapital (3000 -5000 € pro kW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Arbeitskraft (ca. 1-3 Std pro Ta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bebaubare Hoffläche (ca. 0,5 -1 ha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sberechnung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Die Wirtschaftlichkeit einer Biogasanlage wird   insbesondere bestimmt von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w Cen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EEG Gesetz für den Vorrang Erneuerbarer Energien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Investitionskosten, Anlagengröß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Zuschüsse, Zinssätze, Besteuer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Anlagenleist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Wärmenutz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buClr>
                <a:srgbClr val="dd80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w Cen MT"/>
              </a:rPr>
              <a:t>Kosten für Biomass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Vor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utzung von erneuerbaren Energi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0" lang="de-DE" sz="2600" spc="-1" strike="noStrike" baseline="-33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neutrale Energieerzeu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insatz des Methans als Treibst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w Cen MT"/>
              </a:rPr>
              <a:t>Nachtei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Hoher Investitionsaufwa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Geruchsbelästigu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Großer Flächenbedarf für die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w Cen MT"/>
              </a:rPr>
              <a:t>Eventuelle ökologische Probleme durch gezielten Anbau von „Energiepflanzen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Rechteck 3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4" name="Inhaltsplatzhalter 3" descr="FNR_Biogasanlagenbestand_2010_orange_72dpi.JPG"/>
          <p:cNvPicPr/>
          <p:nvPr/>
        </p:nvPicPr>
        <p:blipFill>
          <a:blip r:embed="rId1"/>
          <a:stretch/>
        </p:blipFill>
        <p:spPr>
          <a:xfrm>
            <a:off x="682560" y="2065320"/>
            <a:ext cx="8358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Aufbau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431640" indent="-322200">
              <a:spcBef>
                <a:spcPts val="774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682560" y="1851120"/>
            <a:ext cx="839808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1763640"/>
            <a:ext cx="10080720" cy="579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Vergütung: nach EE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Grundvergütung nach Leistung der Anl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Jährliche Abnahme, um Effizienzsteigerung und Kostensenkung einer Anlage zu erziele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NawaRo,Abfälle,Güllebonus:Verwendung besonderer Inputstoff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Technologiebonus: Einsatz spezieller Verstromungstechni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Tw Cen MT"/>
              </a:rPr>
              <a:t>Technologien:Gasturbine, Brennstoffzelle, Organic-Rankine-Anlage,Stirlingmotor,Dampfmotor,Kalina-Cyc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w Cen MT"/>
              </a:rPr>
              <a:t>KWK-Bonus:Beim Einsatz einer Anlage zur Kraft-Wärme-Kopplu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dd8047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us 7"/>
          <p:cNvSpPr/>
          <p:nvPr/>
        </p:nvSpPr>
        <p:spPr>
          <a:xfrm>
            <a:off x="71280" y="3279600"/>
            <a:ext cx="468360" cy="500400"/>
          </a:xfrm>
          <a:custGeom>
            <a:avLst/>
            <a:gdLst>
              <a:gd name="textAreaLeft" fmla="*/ 61920 w 468360"/>
              <a:gd name="textAreaRight" fmla="*/ 406440 w 468360"/>
              <a:gd name="textAreaTop" fmla="*/ 195120 h 500400"/>
              <a:gd name="textAreaBottom" fmla="*/ 305280 h 500400"/>
            </a:gdLst>
            <a:ahLst/>
            <a:rect l="textAreaLeft" t="textAreaTop" r="textAreaRight" b="textAreaBottom"/>
            <a:pathLst>
              <a:path w="468312" h="500063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5"/>
                </a:lnTo>
                <a:lnTo>
                  <a:pt x="289229" y="305105"/>
                </a:lnTo>
                <a:lnTo>
                  <a:pt x="289229" y="433780"/>
                </a:lnTo>
                <a:lnTo>
                  <a:pt x="179083" y="433780"/>
                </a:lnTo>
                <a:lnTo>
                  <a:pt x="179083" y="305105"/>
                </a:lnTo>
                <a:lnTo>
                  <a:pt x="62075" y="305105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9640" y="4351320"/>
          <a:ext cx="9541080" cy="428760"/>
        </p:xfrm>
        <a:graphic>
          <a:graphicData uri="http://schemas.openxmlformats.org/drawingml/2006/table">
            <a:tbl>
              <a:tblPr/>
              <a:tblGrid>
                <a:gridCol w="3179880"/>
                <a:gridCol w="3181320"/>
                <a:gridCol w="31798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- 4 c/kWh (Güllebon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Pflanzenreste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4 – 7 c/kWh (Nawa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79" name="Plus 11"/>
          <p:cNvSpPr/>
          <p:nvPr/>
        </p:nvSpPr>
        <p:spPr>
          <a:xfrm>
            <a:off x="71280" y="435132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39640" y="5208480"/>
          <a:ext cx="9541080" cy="371520"/>
        </p:xfrm>
        <a:graphic>
          <a:graphicData uri="http://schemas.openxmlformats.org/drawingml/2006/table">
            <a:tbl>
              <a:tblPr/>
              <a:tblGrid>
                <a:gridCol w="4770720"/>
                <a:gridCol w="477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 c/kWh (Anlagen bis 700 m³/Stunde)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 c/kWh (Anlagen bis 350 m³/Stunde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1" name="Plus 14"/>
          <p:cNvSpPr/>
          <p:nvPr/>
        </p:nvSpPr>
        <p:spPr>
          <a:xfrm>
            <a:off x="71280" y="5780160"/>
            <a:ext cx="468360" cy="500040"/>
          </a:xfrm>
          <a:custGeom>
            <a:avLst/>
            <a:gdLst>
              <a:gd name="textAreaLeft" fmla="*/ 61920 w 468360"/>
              <a:gd name="textAreaRight" fmla="*/ 406440 w 468360"/>
              <a:gd name="textAreaTop" fmla="*/ 194760 h 500040"/>
              <a:gd name="textAreaBottom" fmla="*/ 305280 h 500040"/>
            </a:gdLst>
            <a:ahLst/>
            <a:rect l="textAreaLeft" t="textAreaTop" r="textAreaRight" b="textAreaBottom"/>
            <a:pathLst>
              <a:path w="468312" h="500062">
                <a:moveTo>
                  <a:pt x="62075" y="194958"/>
                </a:moveTo>
                <a:lnTo>
                  <a:pt x="179083" y="194958"/>
                </a:lnTo>
                <a:lnTo>
                  <a:pt x="179083" y="66283"/>
                </a:lnTo>
                <a:lnTo>
                  <a:pt x="289229" y="66283"/>
                </a:lnTo>
                <a:lnTo>
                  <a:pt x="289229" y="194958"/>
                </a:lnTo>
                <a:lnTo>
                  <a:pt x="406237" y="194958"/>
                </a:lnTo>
                <a:lnTo>
                  <a:pt x="406237" y="305104"/>
                </a:lnTo>
                <a:lnTo>
                  <a:pt x="289229" y="305104"/>
                </a:lnTo>
                <a:lnTo>
                  <a:pt x="289229" y="433779"/>
                </a:lnTo>
                <a:lnTo>
                  <a:pt x="179083" y="433779"/>
                </a:lnTo>
                <a:lnTo>
                  <a:pt x="179083" y="305104"/>
                </a:lnTo>
                <a:lnTo>
                  <a:pt x="62075" y="305104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611280" y="6708600"/>
          <a:ext cx="9469440" cy="371520"/>
        </p:xfrm>
        <a:graphic>
          <a:graphicData uri="http://schemas.openxmlformats.org/drawingml/2006/table">
            <a:tbl>
              <a:tblPr/>
              <a:tblGrid>
                <a:gridCol w="9469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                                                           </a:t>
                      </a: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 c/kW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11280" y="2708280"/>
          <a:ext cx="9469440" cy="639720"/>
        </p:xfrm>
        <a:graphic>
          <a:graphicData uri="http://schemas.openxmlformats.org/drawingml/2006/table">
            <a:tbl>
              <a:tblPr/>
              <a:tblGrid>
                <a:gridCol w="3522600"/>
                <a:gridCol w="2948040"/>
                <a:gridCol w="2998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7.71c/kWh (bis 20 M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9.09c/kWh (bis 50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1.55c/kWh (bis 150 k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84" name="Rechteck 10"/>
          <p:cNvSpPr/>
          <p:nvPr/>
        </p:nvSpPr>
        <p:spPr>
          <a:xfrm>
            <a:off x="2775960" y="3605040"/>
            <a:ext cx="45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ung des Energiebedarfs Im Haush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Primärenergie - verbrauch in Deutschland in 200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Inhaltsplatzhalter 6" descr=""/>
          <p:cNvPicPr/>
          <p:nvPr/>
        </p:nvPicPr>
        <p:blipFill>
          <a:blip r:embed="rId1"/>
          <a:stretch/>
        </p:blipFill>
        <p:spPr>
          <a:xfrm>
            <a:off x="2603520" y="1932120"/>
            <a:ext cx="705636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4368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Stromerzeugung aus erneuerbaren Energien in Deutschland 2008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0" name="Inhaltsplatzhalter 6" descr=""/>
          <p:cNvPicPr/>
          <p:nvPr/>
        </p:nvPicPr>
        <p:blipFill>
          <a:blip r:embed="rId1"/>
          <a:stretch/>
        </p:blipFill>
        <p:spPr>
          <a:xfrm>
            <a:off x="2603520" y="1779480"/>
            <a:ext cx="7056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Wirtschaftlichkeit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-360" y="1931760"/>
            <a:ext cx="23972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Wärme Erzeugung aus erneuerbaren  Energien in Deutschland 2008  in Gigawattstunde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3" name="Inhaltsplatzhalter 3" descr=""/>
          <p:cNvPicPr/>
          <p:nvPr/>
        </p:nvPicPr>
        <p:blipFill>
          <a:blip r:embed="rId1"/>
          <a:stretch/>
        </p:blipFill>
        <p:spPr>
          <a:xfrm>
            <a:off x="2325600" y="1932120"/>
            <a:ext cx="7334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Quellenverzeichnis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7640" bIns="50400" anchor="t">
            <a:normAutofit/>
          </a:bodyPr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hems-renewables.de/renewable-energies/biogas.html#c76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caussade-saaten.de/Pdf/Caussade%20Biogasinfomappe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nep-group.com/text/funktion-von-biogas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zusammensetz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mifratis.de/biogasentstehung.ph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www.initiative-co2.de/fachberichte/n-waerme-strom-biogas-02.pd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ccff"/>
                </a:solidFill>
                <a:latin typeface="Tw Cen MT"/>
              </a:rPr>
              <a:t>http://biogaskontor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iogas-netzeinspeisung.at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naturland.d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30200" indent="-32400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w Cen MT"/>
              </a:rPr>
              <a:t>http://www.Bundesumweltministerium.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74640" y="1763280"/>
            <a:ext cx="898992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82560" y="1779480"/>
            <a:ext cx="892980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1040" y="301320"/>
            <a:ext cx="8906040" cy="95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Verwendbare Stoff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931760"/>
            <a:ext cx="1682640" cy="478764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51200" rIns="151200" tIns="201600" bIns="100800" anchor="t">
            <a:normAutofit/>
          </a:bodyPr>
          <a:p>
            <a:pPr indent="0">
              <a:spcBef>
                <a:spcPts val="774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w Cen MT"/>
              </a:rPr>
              <a:t>Ausbeute Rohbioga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Inhaltsplatzhalter 6" descr=""/>
          <p:cNvPicPr/>
          <p:nvPr/>
        </p:nvPicPr>
        <p:blipFill>
          <a:blip r:embed="rId1"/>
          <a:stretch/>
        </p:blipFill>
        <p:spPr>
          <a:xfrm>
            <a:off x="1754280" y="2208240"/>
            <a:ext cx="7905600" cy="5143320"/>
          </a:xfrm>
          <a:prstGeom prst="rect">
            <a:avLst/>
          </a:prstGeom>
          <a:ln w="0">
            <a:noFill/>
          </a:ln>
        </p:spPr>
      </p:pic>
      <p:sp>
        <p:nvSpPr>
          <p:cNvPr id="375" name="Textfeld 7"/>
          <p:cNvSpPr/>
          <p:nvPr/>
        </p:nvSpPr>
        <p:spPr>
          <a:xfrm>
            <a:off x="1760040" y="1851120"/>
            <a:ext cx="1146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dd8047"/>
                </a:solidFill>
                <a:latin typeface="Arial"/>
              </a:rPr>
              <a:t>in m³/t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2560" y="170784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2560" y="177912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Annahmeberei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w Cen MT"/>
              </a:rPr>
              <a:t>Der Annahmebereich dient als Zwischenlagerung der Gärsubstra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3240000" y="3556080"/>
            <a:ext cx="556740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4640" y="252360"/>
            <a:ext cx="89899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4900" spc="-1" strike="noStrike">
                <a:solidFill>
                  <a:srgbClr val="775f55"/>
                </a:solidFill>
                <a:latin typeface="Tw Cen MT"/>
              </a:rPr>
              <a:t>Funktion einer Biogasanl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2560" y="1763280"/>
            <a:ext cx="898200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0640" indent="-514440">
              <a:spcBef>
                <a:spcPts val="774"/>
              </a:spcBef>
              <a:buClr>
                <a:srgbClr val="ffcc99"/>
              </a:buClr>
              <a:buFont typeface="Tw Cen MT"/>
              <a:buAutoNum type="arabicPeriod" startAt="2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w Cen MT"/>
              </a:rPr>
              <a:t>Hygienisieru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w Cen MT"/>
              </a:rPr>
              <a:t>Hier werden die Substrate wie z.B. (tierische Reststoffe)  auf 70 Grad Celsius für eine Stunde erhitzt, damit keine Kontamination sowie seuchenhygienisch bedenkliche Stoffe oder Bakterien in die Biogasanlage gelangen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20640" indent="-514440">
              <a:spcBef>
                <a:spcPts val="774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56:59Z</dcterms:created>
  <dc:creator>rene</dc:creator>
  <dc:description/>
  <dc:language>en-US</dc:language>
  <cp:lastModifiedBy>thomas liebing</cp:lastModifiedBy>
  <dcterms:modified xsi:type="dcterms:W3CDTF">2010-04-18T17:19:59Z</dcterms:modified>
  <cp:revision>73</cp:revision>
  <dc:subject/>
  <dc:title>Folie 1</dc:title>
</cp:coreProperties>
</file>